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685B-EEE1-427C-8576-76AC6ABA5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58BA-6C49-4DD5-9DBA-A50DF0C3C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BA49-B4EC-49DC-87C1-4856A5559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84C1-45E7-47AB-8E74-AE7692D62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6720-F32F-45A2-8091-63778311D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1C85-C4D8-4B30-A3CD-2D2F0F582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2799-C9CB-40C1-9C6A-E841190A5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D20B-C35F-4D3E-92D2-5CFD80CC6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72C4-E257-418E-A191-6A462BF6F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F2AB-B239-4F8C-8130-8FD77479D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9904-D695-41C0-BCC5-7BBE14C53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121F-E6E8-4840-9530-837F85BA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84249-2043-4962-96D9-240201A6F8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sRTe4q-vR0g&amp;feature=related" TargetMode="External"/><Relationship Id="rId2" Type="http://schemas.openxmlformats.org/officeDocument/2006/relationships/hyperlink" Target="http://www.youtube.com/watch?v=sRTe4q-vR0g&amp;feature=related" TargetMode="External"/><Relationship Id="rId3" Type="http://schemas.openxmlformats.org/officeDocument/2006/relationships/hyperlink" Target="http://www.youtube.com/watch?v=sRTe4q-vR0g&amp;feature=related" TargetMode="External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2FEsismdGWY" TargetMode="External"/><Relationship Id="rId2" Type="http://schemas.openxmlformats.org/officeDocument/2006/relationships/hyperlink" Target="http://www.youtube.com/watch?v=2FEsismdGWY" TargetMode="External"/><Relationship Id="rId3" Type="http://schemas.openxmlformats.org/officeDocument/2006/relationships/hyperlink" Target="http://www.youtube.com/watch?v=2FEsismdGWY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obetv.co.uk/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4360" y="1052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O N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ow has modern British culture changed in recent year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atch this clip and discus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cc00cc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GB" sz="2800" spc="-1" strike="noStrike" u="sng">
                <a:solidFill>
                  <a:srgbClr val="cc00cc"/>
                </a:solidFill>
                <a:uFillTx/>
                <a:latin typeface="Times New Roman"/>
                <a:hlinkClick r:id="rId2"/>
              </a:rPr>
              <a:t>www.youtube.com/watch?v</a:t>
            </a:r>
            <a:r>
              <a:rPr b="0" lang="en-GB" sz="2800" spc="-1" strike="noStrike" u="sng">
                <a:solidFill>
                  <a:srgbClr val="cc00cc"/>
                </a:solidFill>
                <a:uFillTx/>
                <a:latin typeface="Times New Roman"/>
                <a:hlinkClick r:id="rId3"/>
              </a:rPr>
              <a:t>=sRTe4q-vR0g&amp;feature=rel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dian sub-continent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 which country is Karachi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hat religion is this a symbol of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hich country used to be known as Ceyl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 which country is the cricketer Sachin Tendulkar from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hich UK city has the highest concentration of UK A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 which country do they speak Punjabi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rom which country are most of the UK owners of Indian restaurants from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hat is a samos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hat meat are Muslims forbidden to ea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 Indian weddings what is the dowr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908000" y="2133720"/>
            <a:ext cx="86364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nsw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kist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in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ri Lan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ice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nglade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pastry with a veg or meat fi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ney given to the bride’s family from the groom’s fam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How much do we know about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Indo-Asian cultur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77724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In the UK we define anyone from what is known as the ‘Indian sub-continent’ as being Asian. In the US, Asians are those from oriental Asia (China, Japan, Korea etc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hat nations make up the Indian sub-contin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d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akistan( which was part of India until 194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ri Lan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anglades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iscuss: How could you tell the difference between people of these na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hysical dif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lot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elig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10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1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10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10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10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1000"/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1000"/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1000"/>
                                        <p:tgtEl>
                                          <p:spTgt spid="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1000"/>
                                        <p:tgtEl>
                                          <p:spTgt spid="8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1000"/>
                                        <p:tgtEl>
                                          <p:spTgt spid="8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71640" y="620280"/>
            <a:ext cx="5256000" cy="12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‘Apu’ iss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11280" y="1916280"/>
            <a:ext cx="7772400" cy="43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character of Apu in the Simpsons divides opinion particularly amongst the Asian commun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tch this clip and then discuss his representation as an Asian charac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he Simpsons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gets a way with it because it’s an animation and it uses exaggerated stereotypes to create humour (Chief Wiggum and the police, Krusty and Jewish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wever the issue is whether non-Asian audiences are laughing at the character's ‘Asianess’ or at the ‘clever’ use of stereotyp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588000" y="33336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3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/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Representation of culture/ethnicit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Learning Objectiv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evelop deeper understanding of how the media represent modern multicultural Brit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56108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Recap- Ethnic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4960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What is meant by ethnicity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Verdana"/>
              </a:rPr>
              <a:t>A cultural distinctiveness based on a number of facto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What is the difference between nationality and ethnicit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Are people within the same ethnic group the same in all ways?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What are some of the British cultural stereotyp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tarter task: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Watch these clips from two British film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What British stereotypes can you identif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How do other countries perceive British culture?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cc00cc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GB" sz="1800" spc="-1" strike="noStrike" u="sng">
                <a:solidFill>
                  <a:srgbClr val="cc00cc"/>
                </a:solidFill>
                <a:uFillTx/>
                <a:latin typeface="Times New Roman"/>
                <a:hlinkClick r:id="rId2"/>
              </a:rPr>
              <a:t>www.youtube.com/watch?v</a:t>
            </a:r>
            <a:r>
              <a:rPr b="0" lang="en-GB" sz="1800" spc="-1" strike="noStrike" u="sng">
                <a:solidFill>
                  <a:srgbClr val="cc00cc"/>
                </a:solidFill>
                <a:uFillTx/>
                <a:latin typeface="Times New Roman"/>
                <a:hlinkClick r:id="rId3"/>
              </a:rPr>
              <a:t>=2FEsismdGW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How is Ethnicity forme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What contributes to a person’s ethnicity? A combination of facto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Colour of ski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Relig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Nation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Langu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Cultural specifics- food, clothing, custom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Ethnicity is a complex issue – it involves more than just place of birth or colour of sk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Newham has more than 150 languages spoken in it. However language is just one way to breakdown culture as many languages are spoken within one country or cult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thnicity and the med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6421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thnic Niche markets’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hat is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The media providing for a specific ‘niche’ market based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ethnic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Look at this example: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cc00cc"/>
                </a:solidFill>
                <a:uFillTx/>
                <a:latin typeface="Times New Roman"/>
                <a:hlinkClick r:id="rId1"/>
              </a:rPr>
              <a:t>OBE TV - YOUR CHANNEL OF CHO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Can you list some other media products/channels that are specifically targeting their audience based on ethnicity.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How ethnically diverse is the mainstream British media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Example: 1Xtra is the BBCs attempt at targeting a smaller niche market or is it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1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1000"/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1000"/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ase Study: Asians in the med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Asian community in the UK are well represented on television, particularly in broadcast news med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0920" y="3284640"/>
            <a:ext cx="2735280" cy="1538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419640" y="3284640"/>
            <a:ext cx="1758960" cy="2338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372360" y="2997360"/>
            <a:ext cx="2592360" cy="24955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971640" y="4941720"/>
            <a:ext cx="2004840" cy="1717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4932360" y="4581360"/>
            <a:ext cx="1608120" cy="20685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84360" y="4292640"/>
            <a:ext cx="23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Rajesh Mirchenda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95640" y="29242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George Alagia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43280" y="609300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artin Bash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588000" y="616572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Riz Lat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443640" y="306864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Krishnan Gurumurth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2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ther Asians in the Med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588000" y="3141720"/>
            <a:ext cx="2232000" cy="14889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24000" y="4076640"/>
            <a:ext cx="1944360" cy="1944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2484360" y="1341360"/>
            <a:ext cx="2158920" cy="21589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468360" y="1268280"/>
            <a:ext cx="1595520" cy="244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995640" y="6165720"/>
            <a:ext cx="439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40000" y="4508640"/>
            <a:ext cx="3600360" cy="20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Can you name any other Asians in the med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What reasons can you give for there being fewer ‘Asian popstars’or actor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4788000" y="1341360"/>
            <a:ext cx="1662120" cy="1800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5940360" y="4581360"/>
            <a:ext cx="1590840" cy="2121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7"/>
          <a:stretch/>
        </p:blipFill>
        <p:spPr>
          <a:xfrm>
            <a:off x="6948360" y="1197000"/>
            <a:ext cx="154152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sians in the media continue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9640" y="2060280"/>
            <a:ext cx="83534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could be said that Asians are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under-represented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n other areas of the media notably, film and musi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iscus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at films can you name that feature Asian charac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ow many UK Asian musical artists can you name?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imes New Roman"/>
              </a:rPr>
              <a:t>Asian stereotyp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3640" y="1673280"/>
            <a:ext cx="85690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re some of common Asian stereotyp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ard working and studi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usiness min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trong sense of family- close k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ood at Maths (and crick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oney/status orient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ligious/mo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rranged marri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assive (except for terroris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Discuss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can you name some media examples where these stereotypes are eviden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1T13:07:06Z</dcterms:created>
  <dc:creator>gokul</dc:creator>
  <dc:description/>
  <dc:language>en-US</dc:language>
  <cp:lastModifiedBy>#</cp:lastModifiedBy>
  <dcterms:modified xsi:type="dcterms:W3CDTF">2010-09-24T13:23:03Z</dcterms:modified>
  <cp:revision>35</cp:revision>
  <dc:subject/>
  <dc:title>Representation In Soap Opera</dc:title>
</cp:coreProperties>
</file>